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2AF-95E7-4530-B757-C0C07F31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822-23F7-4996-9FB3-766FE64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A36-7840-452B-B43C-210319E2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D2B-A581-4EAA-9BAC-B7323B83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7B4-DD15-4E88-B9FA-2A3AF423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F23-4566-46EA-AAEE-714C0A5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D3F-777A-4E71-BA93-08F95C9A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391-5CEA-4BD9-B8CA-C811ED14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50F-DAA6-4249-8D98-2C331BE5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E09-80F9-401A-80E8-2FC7D9B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DAE-192A-4FF3-B4B9-4021BDB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789-0797-415E-97D4-5A1EA645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3751-63FE-4C95-85FB-795D1343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La Rutina de Pedro- El Ko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Nombres: Olivia Barbieri y Eveline Redd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Re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ám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3760" y="4038120"/>
            <a:ext cx="3429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  <a:ea typeface="Arial"/>
              </a:rPr>
              <a:t>Ahora, Pedro se pone la ropa. Lleva una sudadera y los calcetines.</a:t>
            </a:r>
            <a:r>
              <a:rPr b="0" lang="es-PR" sz="32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63512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429000"/>
            <a:ext cx="4038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oy es Domingo. Pedro se despierta a las diez de la ma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  <a:ea typeface="Arial"/>
              </a:rPr>
              <a:t>ñana. Es muy tarde. No se levanta ensegu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09680" y="1447920"/>
            <a:ext cx="157032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72200" y="1447920"/>
            <a:ext cx="1690560" cy="22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de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05720" y="3809520"/>
            <a:ext cx="2209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se maquilla, pero su novia se maqu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50984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1176480" cy="200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4920" y="4724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58000" y="1066680"/>
            <a:ext cx="1981080" cy="23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2133720"/>
            <a:ext cx="23623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ro se lava la cara en el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838080"/>
            <a:ext cx="2819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 cepilla los dientes con el cepillo de dientes y con el tubo de pasta. Se mira en el espe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72428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dro se peina el pelo con el pe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48520" y="3124080"/>
            <a:ext cx="2666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usta el desayuno. Ahora, se levanta y va a ir a la escu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895760" cy="24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00400" cy="2155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038480" y="129528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3505320"/>
            <a:ext cx="3657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cocina, Pedro come. Hoy se sienta a la mesa, y se desayuna. Tomo las hojas de eucalip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657600"/>
            <a:ext cx="221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e el jugo de nar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Esc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789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ro llega a la escuela en carro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l se sienta en la clase de matematicas. Una alumna nueva viene en la clase. La profesora pregunta, ¿Cómo te llama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alumn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uestas, me llamo Ari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uego, Pedro se sienta a la mes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ma el almuerzo. Come un bocadillo, una yogur, y una manz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038400" cy="1505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010280" y="22860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1520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llama Ar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ora, Pedro sale a la escuela y vuelve a casa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l está muy cansado porque el día fue muy ocup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8637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391520" y="3049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05520" y="3886200"/>
            <a:ext cx="14572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657600" y="1447920"/>
            <a:ext cx="1676520" cy="116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2320" y="2743200"/>
            <a:ext cx="274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dro se ducha. Se lava el pelo con el champú y se lava con la barra de jab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838080"/>
            <a:ext cx="2514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 afeita con la navaja y con la crema de afeit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3809880"/>
            <a:ext cx="2286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ora se lava los dientes con el cepillo de die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de Dor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400" y="45720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ana él va a repetir su rutina. ¡Adiós, Pedro! ¡Buenas noch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923840" cy="237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8120" y="1828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400800" y="10666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5880" y="3733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enas noches, Ped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038480"/>
            <a:ext cx="2057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ro se pone las pija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809880"/>
            <a:ext cx="3505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cuesta a las once de la noche. Se duerme ensegu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1 -0.21097 C -0.03108 -0.21097 0.025 -0.18252 0.025 -0.14712 C 0.025 -0.11196 -0.03108 -0.08328 -0.1 -0.08328 C -0.1691 -0.08328 -0.225 -0.11196 -0.225 -0.14712 C -0.225 -0.18252 -0.1691 -0.21097 -0.1 -0.21097 Z">
                                      <p:cBhvr>
                                        <p:cTn id="1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25:52Z</dcterms:created>
  <dc:creator>barbierioli</dc:creator>
  <dc:description/>
  <dc:language>en-US</dc:language>
  <cp:lastModifiedBy>reddingtoneve</cp:lastModifiedBy>
  <dcterms:modified xsi:type="dcterms:W3CDTF">2012-04-05T13:02:30Z</dcterms:modified>
  <cp:revision>17</cp:revision>
  <dc:subject/>
  <dc:title>La Rutina de Pedro- El Koala</dc:title>
</cp:coreProperties>
</file>